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3AF2-167C-4EB6-B514-BE231EBD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5BE7-A173-4C38-A2BB-0B80F543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59A5-9173-4696-936B-5330F5EE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FB5B-4F4E-49C5-AA4B-3D858A47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6E9-944A-4515-A1F8-61539420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E2DD-BD37-42CA-82E7-7B47A9DB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143-FAA5-41DD-B665-460C021C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5B8-2AB2-473E-8E75-72A84303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FDFD-D0A7-4155-9991-C1D7322C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4A6-C2EC-4614-96C5-09252516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F1FF-BF88-4DF9-8A94-61EDC705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512-887F-49CF-8F34-8FC7775D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F5C2-C081-4033-97CB-7325B2F92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9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14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20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2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30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5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0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15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21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26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31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6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1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16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22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27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32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7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12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1.png"/><Relationship Id="rId63" Type="http://schemas.openxmlformats.org/officeDocument/2006/relationships/slide" Target="slide23.xml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2.png"/><Relationship Id="rId67" Type="http://schemas.openxmlformats.org/officeDocument/2006/relationships/image" Target="../media/image1.png"/><Relationship Id="rId68" Type="http://schemas.openxmlformats.org/officeDocument/2006/relationships/slide" Target="slide33.xml"/><Relationship Id="rId69" Type="http://schemas.openxmlformats.org/officeDocument/2006/relationships/image" Target="../media/image2.png"/><Relationship Id="rId70" Type="http://schemas.openxmlformats.org/officeDocument/2006/relationships/image" Target="../media/image1.png"/><Relationship Id="rId71" Type="http://schemas.openxmlformats.org/officeDocument/2006/relationships/slide" Target="slide8.xml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slide" Target="slide13.xml"/><Relationship Id="rId75" Type="http://schemas.openxmlformats.org/officeDocument/2006/relationships/image" Target="../media/image2.png"/><Relationship Id="rId76" Type="http://schemas.openxmlformats.org/officeDocument/2006/relationships/image" Target="../media/image1.png"/><Relationship Id="rId77" Type="http://schemas.openxmlformats.org/officeDocument/2006/relationships/slide" Target="slide19.xml"/><Relationship Id="rId78" Type="http://schemas.openxmlformats.org/officeDocument/2006/relationships/image" Target="../media/image2.png"/><Relationship Id="rId79" Type="http://schemas.openxmlformats.org/officeDocument/2006/relationships/image" Target="../media/image1.png"/><Relationship Id="rId80" Type="http://schemas.openxmlformats.org/officeDocument/2006/relationships/slide" Target="slide24.xml"/><Relationship Id="rId81" Type="http://schemas.openxmlformats.org/officeDocument/2006/relationships/image" Target="../media/image2.png"/><Relationship Id="rId82" Type="http://schemas.openxmlformats.org/officeDocument/2006/relationships/image" Target="../media/image1.png"/><Relationship Id="rId83" Type="http://schemas.openxmlformats.org/officeDocument/2006/relationships/slide" Target="slide29.xml"/><Relationship Id="rId84" Type="http://schemas.openxmlformats.org/officeDocument/2006/relationships/image" Target="../media/image2.png"/><Relationship Id="rId85" Type="http://schemas.openxmlformats.org/officeDocument/2006/relationships/image" Target="../media/image1.png"/><Relationship Id="rId86" Type="http://schemas.openxmlformats.org/officeDocument/2006/relationships/slide" Target="slide34.xml"/><Relationship Id="rId87" Type="http://schemas.openxmlformats.org/officeDocument/2006/relationships/image" Target="../media/image2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3.jpeg"/><Relationship Id="rId95" Type="http://schemas.openxmlformats.org/officeDocument/2006/relationships/image" Target="../media/image4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5.png"/><Relationship Id="rId98" Type="http://schemas.openxmlformats.org/officeDocument/2006/relationships/image" Target="../media/image6.png"/><Relationship Id="rId99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175248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fertilized egg is known as thi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129528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 example of an organism with external fertiliz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137160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 example of an organism with internal fertiliz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1447920"/>
            <a:ext cx="6324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 the human, fertilization usually occurs within this part of the female’s reproductive trac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144792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is an example of an organism with internal developmen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160020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is an example of an organism with internal fertilization and external developm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1219320"/>
            <a:ext cx="6324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process begins immediately after fertilization and results in the formation of a blastul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182880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se two things must take place in order for an embryo to GR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1371600"/>
            <a:ext cx="6324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e the nourishment of a chick embryo and a human embry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67652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motile male gamete is produced in this structur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1295280"/>
            <a:ext cx="632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is what the urethra is adapted to transpo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1447920"/>
            <a:ext cx="7467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stosterone is produced by this part of the male reproductive syst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121932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is the advantage of the testes being located in an out-pocketing of the body w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12952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is the function of the male reproductive syst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47920" y="144792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female gamete is produced in this structu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1600200"/>
            <a:ext cx="632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structure is also known as the birth can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1447920"/>
            <a:ext cx="6324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-10 days after fertilization, the embryo becomes implanted in this structu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152388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structure is made of both maternal and embryonic tissu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1066680"/>
            <a:ext cx="6324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se two secondary sex characteristics prepare the female’s body for pregnancy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creenj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lue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3" name="screenj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lue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6" name="screenj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lue" descr="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screenj" descr="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lue" descr="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screenj" descr="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lue" descr="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screenj" descr=""/>
          <p:cNvPicPr/>
          <p:nvPr/>
        </p:nvPicPr>
        <p:blipFill>
          <a:blip r:embed="rId15"/>
          <a:stretch/>
        </p:blipFill>
        <p:spPr>
          <a:xfrm>
            <a:off x="7819920" y="1981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lue" descr="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screenj" descr="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lue" descr="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screenj" descr="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lue" descr="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screenj" descr="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blue" descr="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screenj" descr="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blue" descr="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screenj" descr="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blue" descr="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screenj" descr="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blue" descr="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screenj" descr="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blue" descr="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89" name="screenj" descr="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lue" descr="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2" name="screenj" descr="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lue" descr="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screenj" descr="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lue" descr="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screenj" descr="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blue" descr="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screenj" descr="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blue" descr="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screenj" descr="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lue" descr="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7" name="screenj" descr="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blue" descr="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0" name="screenj" descr="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lue" descr=""/>
          <p:cNvPicPr/>
          <p:nvPr/>
        </p:nvPicPr>
        <p:blipFill>
          <a:blip r:embed="rId61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screenj" descr=""/>
          <p:cNvPicPr/>
          <p:nvPr/>
        </p:nvPicPr>
        <p:blipFill>
          <a:blip r:embed="rId62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3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blue" descr=""/>
          <p:cNvPicPr/>
          <p:nvPr/>
        </p:nvPicPr>
        <p:blipFill>
          <a:blip r:embed="rId64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screenj" descr=""/>
          <p:cNvPicPr/>
          <p:nvPr/>
        </p:nvPicPr>
        <p:blipFill>
          <a:blip r:embed="rId65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blue" descr=""/>
          <p:cNvPicPr/>
          <p:nvPr/>
        </p:nvPicPr>
        <p:blipFill>
          <a:blip r:embed="rId66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screenj" descr=""/>
          <p:cNvPicPr/>
          <p:nvPr/>
        </p:nvPicPr>
        <p:blipFill>
          <a:blip r:embed="rId67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lue" descr=""/>
          <p:cNvPicPr/>
          <p:nvPr/>
        </p:nvPicPr>
        <p:blipFill>
          <a:blip r:embed="rId69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screenj" descr=""/>
          <p:cNvPicPr/>
          <p:nvPr/>
        </p:nvPicPr>
        <p:blipFill>
          <a:blip r:embed="rId70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blue" descr=""/>
          <p:cNvPicPr/>
          <p:nvPr/>
        </p:nvPicPr>
        <p:blipFill>
          <a:blip r:embed="rId72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screenj" descr=""/>
          <p:cNvPicPr/>
          <p:nvPr/>
        </p:nvPicPr>
        <p:blipFill>
          <a:blip r:embed="rId73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blue" descr=""/>
          <p:cNvPicPr/>
          <p:nvPr/>
        </p:nvPicPr>
        <p:blipFill>
          <a:blip r:embed="rId7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screenj" descr=""/>
          <p:cNvPicPr/>
          <p:nvPr/>
        </p:nvPicPr>
        <p:blipFill>
          <a:blip r:embed="rId7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7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blue" descr=""/>
          <p:cNvPicPr/>
          <p:nvPr/>
        </p:nvPicPr>
        <p:blipFill>
          <a:blip r:embed="rId78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screenj" descr=""/>
          <p:cNvPicPr/>
          <p:nvPr/>
        </p:nvPicPr>
        <p:blipFill>
          <a:blip r:embed="rId79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blue" descr=""/>
          <p:cNvPicPr/>
          <p:nvPr/>
        </p:nvPicPr>
        <p:blipFill>
          <a:blip r:embed="rId81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screenj" descr=""/>
          <p:cNvPicPr/>
          <p:nvPr/>
        </p:nvPicPr>
        <p:blipFill>
          <a:blip r:embed="rId82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blue" descr=""/>
          <p:cNvPicPr/>
          <p:nvPr/>
        </p:nvPicPr>
        <p:blipFill>
          <a:blip r:embed="rId84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screenj" descr=""/>
          <p:cNvPicPr/>
          <p:nvPr/>
        </p:nvPicPr>
        <p:blipFill>
          <a:blip r:embed="rId85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lue" descr=""/>
          <p:cNvPicPr/>
          <p:nvPr/>
        </p:nvPicPr>
        <p:blipFill>
          <a:blip r:embed="rId87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screenj" descr=""/>
          <p:cNvPicPr/>
          <p:nvPr/>
        </p:nvPicPr>
        <p:blipFill>
          <a:blip r:embed="rId88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1" name="screenj" descr=""/>
          <p:cNvPicPr/>
          <p:nvPr/>
        </p:nvPicPr>
        <p:blipFill>
          <a:blip r:embed="rId89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2" name="screenj" descr=""/>
          <p:cNvPicPr/>
          <p:nvPr/>
        </p:nvPicPr>
        <p:blipFill>
          <a:blip r:embed="rId90"/>
          <a:stretch/>
        </p:blipFill>
        <p:spPr>
          <a:xfrm>
            <a:off x="32004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3" name="screenj" descr=""/>
          <p:cNvPicPr/>
          <p:nvPr/>
        </p:nvPicPr>
        <p:blipFill>
          <a:blip r:embed="rId91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4" name="screenj" descr=""/>
          <p:cNvPicPr/>
          <p:nvPr/>
        </p:nvPicPr>
        <p:blipFill>
          <a:blip r:embed="rId92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5" name="screenj" descr=""/>
          <p:cNvPicPr/>
          <p:nvPr/>
        </p:nvPicPr>
        <p:blipFill>
          <a:blip r:embed="rId93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1523880" y="11430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ERTILE CRES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1430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OH BOY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00800" y="106668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IT’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GIR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10666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ENSTRUAL 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1219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OH M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EIO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jeplogo2" descr=""/>
          <p:cNvPicPr/>
          <p:nvPr/>
        </p:nvPicPr>
        <p:blipFill>
          <a:blip r:embed="rId94"/>
          <a:stretch/>
        </p:blipFill>
        <p:spPr>
          <a:xfrm>
            <a:off x="1370160" y="0"/>
            <a:ext cx="6402240" cy="914400"/>
          </a:xfrm>
          <a:prstGeom prst="rect">
            <a:avLst/>
          </a:prstGeom>
          <a:ln w="0">
            <a:noFill/>
          </a:ln>
        </p:spPr>
      </p:pic>
      <p:pic>
        <p:nvPicPr>
          <p:cNvPr id="152" name="finaljep" descr=""/>
          <p:cNvPicPr/>
          <p:nvPr/>
        </p:nvPicPr>
        <p:blipFill>
          <a:blip r:embed="rId95"/>
          <a:stretch/>
        </p:blipFill>
        <p:spPr>
          <a:xfrm>
            <a:off x="8153280" y="228600"/>
            <a:ext cx="962280" cy="577800"/>
          </a:xfrm>
          <a:prstGeom prst="rect">
            <a:avLst/>
          </a:prstGeom>
          <a:ln w="0">
            <a:noFill/>
          </a:ln>
        </p:spPr>
      </p:pic>
      <p:pic>
        <p:nvPicPr>
          <p:cNvPr id="153" name="applause" descr="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276720" y="11430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DEVELOP TH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8"/>
          <a:stretch/>
        </p:blipFill>
        <p:spPr>
          <a:xfrm>
            <a:off x="12952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160020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is known as the release of an egg from the ova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40640" y="6095880"/>
            <a:ext cx="15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3880" y="144792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is what occurs during the final stage of menstru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40640" y="6095880"/>
            <a:ext cx="15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152388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se two things may interrupt the menstrual cyc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40640" y="6095880"/>
            <a:ext cx="15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114300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hormone that causes the maturation of an egg in a follicle of an ova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40640" y="6095880"/>
            <a:ext cx="15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71600" y="121932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permanent cessation of the menstrual cycle is called th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40640" y="6095880"/>
            <a:ext cx="15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95280" y="1447920"/>
            <a:ext cx="71629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2590920"/>
            <a:ext cx="716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explains why sperm and egg cells must be monoploi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43000" y="266688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266688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ne half the number of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permatogen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371600"/>
            <a:ext cx="9144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w many chromosomes will a cell have after meiosi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(compared to the original cel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ogen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y disinteg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0" y="266688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union of the sperm and egg nucle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Zyg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71600" y="266688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stes or Ovaries (depending on gender, of course!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26668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sh, frogs, salamanders,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266688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rrestrial animals.  Ex:  Mammals, reptiles, bir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71600" y="266688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viduct (or fallopian tub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266688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cental mammal (human), marsupial (kangaro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irds, 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1295280"/>
            <a:ext cx="662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type of meiotic division results in the formation of 4 sperm cel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eav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71600" y="266688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crease in cell number and increase in cell siz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133720"/>
            <a:ext cx="63244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uman :  Diffuse through the placenta and transported to embryo by the umbilical co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icken:  Yo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perm and Ur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68580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Keeping the temperature cooler than body temperature, which ensures proper sperm developm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9907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o produce sperm cells and deposit them in the body of the fema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v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ag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44792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Uh oh! This type of meiotic division results in the formation of one egg cell and three polar bod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Ute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cen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266688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evelopment of mammary glands and widening of hip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v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4800" y="6095880"/>
            <a:ext cx="15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90720" y="26668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hedding of the uterine l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4800" y="6095880"/>
            <a:ext cx="15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egnancy, severe ill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24800" y="6095880"/>
            <a:ext cx="15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266688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SH (follicle stimulating hormon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4800" y="6095880"/>
            <a:ext cx="15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enop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24800" y="6095880"/>
            <a:ext cx="15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609480"/>
            <a:ext cx="9144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using two monoploid nuclei creates a diploid cell, which will form a diploid organis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(n + n = 2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152388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is what happens to the polar bodies after oogenes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137160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name of an organ in your body where meiosis occu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4468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is the definition of fertilization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Joe Sac</dc:creator>
  <dc:description/>
  <dc:language>en-US</dc:language>
  <cp:lastModifiedBy>Joesac</cp:lastModifiedBy>
  <dcterms:modified xsi:type="dcterms:W3CDTF">2006-06-17T01:28:52Z</dcterms:modified>
  <cp:revision>65</cp:revision>
  <dc:subject/>
  <dc:title>Reproduction Jeopardy</dc:title>
</cp:coreProperties>
</file>